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4EF-6B76-4AF1-A3F0-A54E62D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987-6A0B-4B4B-8F21-6AD1F50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B87-ADD1-4EA1-9C12-CB52A6EF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4AA-42EC-4867-9911-585FA15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1D0-FED6-4313-94E8-D13C3EC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0DE-D68C-4697-9A95-CA9857B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F1E-391B-488B-ABF1-C4990A1B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5F8-84C1-4A7B-B955-D884633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F71-593F-4035-88AA-DA6E4D3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737-33AA-43EE-B21C-65D39CB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1EB-4246-4621-B15E-2618280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CD1-89E5-4250-8FB4-3700F83B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2B6-6E1D-4973-9E44-1FDB0F86083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2625480" cy="273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876400" y="44280"/>
            <a:ext cx="2957760" cy="2505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5842080" y="44280"/>
            <a:ext cx="2414520" cy="233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57240" y="3068640"/>
            <a:ext cx="2160360" cy="24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2217600" y="3841920"/>
            <a:ext cx="214344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4348080" y="2982960"/>
            <a:ext cx="2549520" cy="2649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tretch/>
        </p:blipFill>
        <p:spPr>
          <a:xfrm>
            <a:off x="7035840" y="3841920"/>
            <a:ext cx="210816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6770520" y="3776760"/>
            <a:ext cx="232740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8:11:22Z</dcterms:created>
  <dc:creator>Luffi</dc:creator>
  <dc:description/>
  <dc:language>en-US</dc:language>
  <cp:lastModifiedBy>Luffi</cp:lastModifiedBy>
  <dcterms:modified xsi:type="dcterms:W3CDTF">2014-10-05T18:46:43Z</dcterms:modified>
  <cp:revision>4</cp:revision>
  <dc:subject/>
  <dc:title>Presentación de PowerPoint</dc:title>
</cp:coreProperties>
</file>